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DD6B-8040-4420-A178-CDAA696B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7256-FB04-4899-96D9-15944804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02DF-3674-4702-998F-E86FCEFDB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6DD7-E3C1-4122-AB75-D3C7E3BC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72E9-AD9A-4735-BFF5-7D52C5F3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4D06-9B61-456D-9913-11BD04A1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89BA-0AC8-4BFC-AF72-7C443A35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42BF-793A-451C-B21D-979D3AE1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990A-A62A-4BED-8897-B08A2FC1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74E3-B899-44C8-9FB3-53D0C3FD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E877-E04B-45D4-B667-C584D357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8D41-19FD-4A54-AD96-B42568D5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A411-3EFE-4605-8E03-8E8FC31D9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D central data storage and m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dware for Early 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ach - STK 9310 “powderhorn” s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each - STK 9840 “eagle” tape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MB/se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at BaBar, Cern, Rh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0 - STK 9840 tape cartri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GB/ cart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 Server and Mover 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NAL standar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stken_typical_system" descr=""/>
          <p:cNvPicPr/>
          <p:nvPr/>
        </p:nvPicPr>
        <p:blipFill>
          <a:blip r:embed="rId1"/>
          <a:stretch/>
        </p:blipFill>
        <p:spPr>
          <a:xfrm>
            <a:off x="1109520" y="743040"/>
            <a:ext cx="748692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for First U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in production (4 TB) for D0 Run II AML/2 tape library: 8MM, DLT dri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K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working days, working h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data volumes ~1 TB for trial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ing to upgrade lan, network interf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ing to point out bugs and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hardware =&gt; small chance of data lo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sion of ease of 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 can access tape as easily as a native fil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pace viewable with UNIX 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mechanism is similar to the unix cp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ax: encp infile out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43430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p    myfile.dat     /pnfs/theory/project1/myfile.d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p   *     /pnfs/theory/project1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p      /pnfs/theory/project1/myfile.dat     myfile.da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FS” to name tape files using UNIX like paths, served with NFS 2 tran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s to schedule, configure, man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rs to bridge between network and tape dr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5543" t="7445" r="2290" b="1854"/>
          <a:stretch/>
        </p:blipFill>
        <p:spPr>
          <a:xfrm>
            <a:off x="4876920" y="2133720"/>
            <a:ext cx="3511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for Experiments (Clien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Unix Mount command to view the PNFS name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tain the “encp” product from k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p comman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cellaneous “enstore &lt;command&gt;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tore file --re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tore volume [--add | --delete | --restor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tore library [--delete_work --get_queue -priority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lume Prin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Support clustering related files on the same ta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tore provides grouping primiti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assume we can buy a tape robot slot for every ta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tore provides quota in tapes and quotas in “slot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iment may have more tapes than sl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users to generate tapes outside ou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tore provides tools to do th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tapes to leave our system and be readable with simple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tore can make tapes dumpable with c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on ta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ing by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 families” Only files of the same family are on the same ta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amily is just an ascii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s are administered by the experi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ing by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tore closes volume for write when the next file does not f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ed paralle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dth” associated with a “file family” limits the number of volumes open for  writing, concentrates files on fewer volu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bandwidth into a file family to exceed the bandwidth of a tape dr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e family, width=1 over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80880" y="1260360"/>
          <a:ext cx="8288280" cy="50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60360"/>
                    <a:ext cx="8288280" cy="50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pe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oduction, implementation details are hid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s do not stripe or span vol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detai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pes have ANSI VOL1 h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pes are file structured as CPIO arch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file to an archive, one filemark per arch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remove tapes from Enstore and just read them with GNU CPIO (gives a 4GB limit right now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I tapes planned, promised for D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 Mass S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 conne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store “Librarie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t of tapes which are uniform with respect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level treatment by the dr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mechanism to mount/unmount ta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nstore system can consist of many “Libraries’ : D0 (ait, mam-1, dlt. Mam-2. Ait-2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nstore system may have diverse robots (STKEN has STK 9310, and ADIC  AML/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space: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a tree to name files as you w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a tree named as “volume map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pnfs/&lt;mountpoint&gt;/&lt;ffname&gt;/&lt;volume&gt;/&lt;P-_B_f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information on how new files should be created, which the experiment can admini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additional information about each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space:UNIX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using PNFS from DESY. NFS v2 “Trans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most all” UNIX Utilities work, ls, f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utility reads/writes fail by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 files in a directory is a poor choice “by desig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2971800"/>
            <a:ext cx="7924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$ pwd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/pnfs/sam/mammoth/mcc99_2/in2p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[$ du  -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67171544      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$ ls   -al   sim.pmc02_in2p3.pythia.qcd_pt20.0_skip5800_mb1.1av_200evts.299_11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-rw-r--r--   1 sam      root     250184748 Nov 30 17:25 sim.pmc02_in2p3.pythia.qcd_pt20.0_skip5800_mb1.1av_200evts.299_11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m   sim.pmc02_in2p3.  pythia.qcd_pt20.0_skip5800_mb1.1av_200evts.299_11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m:   sim.pmc02_in2p3  .pythia.qcd_pt20.0_skip5800_mb1.1av_200evts.299_1138: Permission den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$ cat   sim.pmc02_in2p3.pythia.qcd_pt20.0skip5800_mb1.1av_200evts.299_1138   &gt;   /dev/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t: sim.pmc02_in2p3.pythia.qcd_pt20.0_skip5800_mb1.1av_200evts.299_1138: Input/output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space:defaults for new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-58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data “tags” are associated with direc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ed by the “enstore pnfs” comm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ed on “mkdir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tag on initial directory given by ISD d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ered by the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9480" y="4876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petravic@d0enmvr17a in2p3]$ enstore pnfs --tags  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(tag)(library)  =  samm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(tag)(file_family)  =  in2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(tag)(file_family_width)  =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(tag)(file_family_wrapper)  =  cpio_od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space: File Meta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s an existing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ed by the “enstore pnfs”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by encp when the file is c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6212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 enstore pnfs --info  sim.pmc02_in2p3.pythia.qcd_pt20.0_10000evts_skip5800_mb1.1av_200evts.299_113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fid="94400431100000L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="PRF020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_cookie="0000_000005442_0000004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="250184748L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_family="in2p3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_file="/pnfs/sam/mammoth/volmap/in2p3/PRF020/0000_000005442_0000004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encp command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crc : data integ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data_access_lay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tructured error ms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ephemeral : make a tape for ex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file_family : override default 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priority : get first claim on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del_pri : get a greater claim if wa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verbose : be chat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ving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 may be removed using “rm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scratch tape when  all files on it are rm’ed. [enstore volume --delete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use a recovery utility to restore files up until the time the volume is scratched.  [enstore file --restore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 are recovered to pathname they were created wi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haring the Central Enstor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make mount point(s) for your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st-based authentication on the server side for mou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r meta data is in its own database f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der the mount point, UNIX file permission ap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your uids/gid’s uniform! (FNAL uniform UID/GID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 permissions apply to the tag files as we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r Share” envisioned, for tape drive re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over experiment resources by the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ities implemented for Data Acquis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ick use of resources for the most urgent n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Integ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/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tion of upstream net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tion of your NIC ca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scheduling of the staging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throughput to your file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configur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built for FUE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, IRIX, SunOS, OS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Good Through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Flow%20on%20a%20computer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20252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ntral Mass St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pe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NALU 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byte Import and 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i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tp://stkensrv2.fnal.gov/enstore/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of interesting monitoring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updates are batc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se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nt transf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stem is up or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ransfers are queu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tp://stkensrv2/enstore/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Status: Green == G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Recent Transf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s Pl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list to use Enst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authorized by the computing div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performant disks and compu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“bonnie” and “stream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suitable network connec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“enstore monitor” to meas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 use of namespace, file famil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rize UIDs and GIDs if requi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unt the name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ncp to access your f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BM 3494 Libr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 IBM 3590 tape dr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TB of staging disk internal t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IBM TBD mover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DDI network, 10 MB/sec to outsid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a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ly a cache, not a primary data reposi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ed as a hierarchical store, with tape at the lowest le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ta are subject to loss should the tape fa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otas are refunded as tapes are squeez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“large fil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D Division office gives an allocation in terms of 10 GB volu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ments are to use syst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st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Envisio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store for experiments large data s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ge files to/from tape via 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fault tolerance -  ensemble reliability of a large tape drive plant, availability sufficient for D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for automated tape libraries and manual ta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names of files in distributed catalog (name spac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 will operate all the tape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hide too much that it is really ta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administration and monito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with commodity and “data center” tape dr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7T18:42:33Z</dcterms:created>
  <dc:creator>Don Petravick</dc:creator>
  <dc:description/>
  <dc:language>en-US</dc:language>
  <cp:lastModifiedBy>alcorn</cp:lastModifiedBy>
  <cp:lastPrinted>2000-05-23T13:28:54Z</cp:lastPrinted>
  <dcterms:modified xsi:type="dcterms:W3CDTF">2000-06-06T20:12:08Z</dcterms:modified>
  <cp:revision>10</cp:revision>
  <dc:subject/>
  <dc:title>CD central data storage and movement</dc:title>
</cp:coreProperties>
</file>