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EB1-D39A-4AF6-BDA3-16D8A83F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D81-901A-4080-9BE7-0F6A123F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D9D-1F51-4AC3-892D-CB989068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63F-3091-4A66-B930-E14D761E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0DD-2DE2-496E-9DC6-902B404E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59C-4709-4581-B35F-1F4A23D0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2EB-EE9F-4307-A098-C44A725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669-E58E-4498-B99C-F555A76F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6666-EDFB-4547-A340-7B5614CA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FAE-BFC4-4B32-A764-A7EEAB98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B11-C10A-45EF-A32C-BCF3A70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026-110C-42A5-A6EE-7D7B564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39B3-5CEC-4D9A-A9AB-C6C18F9C6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central data storage 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for Ear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ach - STK 9310 “powderhorn” s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ach - STK 9840 “eagle” tape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B/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BaBar, Cern,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- STK 9840 tape cart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GB/ cart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Server and Mov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AL standar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tken_typical_system" descr=""/>
          <p:cNvPicPr/>
          <p:nvPr/>
        </p:nvPicPr>
        <p:blipFill>
          <a:blip r:embed="rId1"/>
          <a:stretch/>
        </p:blipFill>
        <p:spPr>
          <a:xfrm>
            <a:off x="1109520" y="743040"/>
            <a:ext cx="7486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for First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in production (4 TB) for D0 Run II AML/2 tape library: 8MM, DLT dr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K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orking days, working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ata volumes ~1 TB for tri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upgrade lan, network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point out bug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hardware =&gt; small chance of data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on of ease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can access tape as easily as a native fi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viewable with UNIX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echanism is similar to the unix cp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encp infile o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myfile.dat     /pnfs/theory/project1/myfile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*     /pnfs/theory/project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  /pnfs/theory/project1/myfile.dat     myfile.d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FS” to name tape files using UNIX like paths, served with NFS 2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to schedule, configure, man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rs to bridge between network and tape d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543" t="7445" r="2290" b="1854"/>
          <a:stretch/>
        </p:blipFill>
        <p:spPr>
          <a:xfrm>
            <a:off x="4876920" y="2133720"/>
            <a:ext cx="351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for Experiments (Clie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Unix Mount command to view the PNFS name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“encp” product from 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p comm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“enstore &lt;command&gt;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file --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volume [--add | --delete | --resto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library [--delete_work --get_queue -priorit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pport clustering related files on the same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grouping prim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ssume we can buy a tape robot slot for ever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quota in tapes and quotas in “slo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 may have more tapes tha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users to generate tapes outside ou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tools to do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tapes to leave our system and be readable with simpl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an make tapes dumpable with c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on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families” Only files of the same family are on the same t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amily is just an ascii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 are administered by the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loses volume for write when the next file does not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th” associated with a “file family” limits the number of volumes open for  writing, concentrates files on fewer volu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bandwidth into a file family to exceed the bandwidth of a tape d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amily, width=1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260360"/>
          <a:ext cx="8288280" cy="50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0360"/>
                    <a:ext cx="82882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p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duction, implementation details are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do not stripe or span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have ANSI VOL1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are file structured as CPIO arch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 to an archive, one filemark per arch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emove tapes from Enstore and just read them with GNU CPIO (gives a 4GB limit right n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tapes planned, promised for D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 “Librar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tapes which are uniform with respec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treatment by the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chanism to mount/unmount 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can consist of many “Libraries’ : D0 (ait, mam-1, dlt. Mam-2. Ait-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may have diverse robots (STKEN has STK 9310, and ADIC  AML/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to name files as you w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named as “volume m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nfs/&lt;mountpoint&gt;/&lt;ffname&gt;/&lt;volume&gt;/&lt;P-_B_f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information on how new files should be created, which the experiment can admin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ditional information about each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UNIX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PNFS from DESY. NFS v2 “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all” UNIX Utilities work, ls,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utility reads/writes fail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les in a directory is a poor choice “by desig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pw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/pnfs/sam/mammoth/mcc99_2/in2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[$ du  -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67171544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ls   -al  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rw-r--r--   1 sam      root     250184748 Nov 30 17:25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   sim.pmc02_in2p3.  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:   sim.pmc02_in2p3  .pythia.qcd_pt20.0_skip5800_mb1.1av_200evts.299_1138: Permission den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cat   sim.pmc02_in2p3.pythia.qcd_pt20.0skip5800_mb1.1av_200evts.299_1138   &gt;   /dev/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t: sim.pmc02_in2p3.pythia.qcd_pt20.0_skip5800_mb1.1av_200evts.299_1138: Input/output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defaults for new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“tags” are associated with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ed by the “enstore pnfs”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on “mkd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tag on initial directory given by ISD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ered by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etravic@d0enmvr17a in2p3]$ enstore pnfs --tags 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library)  =  samm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)  =  in2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idth)  =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rapper)  =  cpio_o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ile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an existin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ed by the “enstore pnfs”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by encp when the fil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 enstore pnfs --info  sim.pmc02_in2p3.pythia.qcd_pt20.0_10000evts_skip5800_mb1.1av_200evts.299_113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id="94400431100000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="PRF020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_cookie="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="250184748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_family="in2p3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_file="/pnfs/sam/mammoth/volmap/in2p3/PRF020/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encp command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crc :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ata_access_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uctured error ms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ephemeral : make a tape for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file_family : override default 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priority : get first claim o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el_pri : get a greater claim if wa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verbose : be cha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may be removed using “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scratch tape when  all files on it are rm’ed. [enstore volume --delet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use a recovery utility to restore files up until the time the volume is scratched.  [enstore file --restor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recovered to pathname they were creat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ing the Central Enstor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ke mount point(s) for your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based authentication on the server side for 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meta data is in its own database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mount point, UNIX file permission a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uids/gid’s uniform! (FNAL uniform UID/G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ermissions apply to the tag file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Share” envisioned, for tape dri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over experiment resources by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es implemented for Data Acqui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use of resources for the most urgent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upstream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your NIC 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cheduling of the stag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hroughput to your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built for FUE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, IRIX, SunOS, OS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Goo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low%20on%20a%20computer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025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LU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byte Import and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.fnal.gov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interesting monitoring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pdates are b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up o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ransfers are queu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Status: Green ==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Recent Trans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 to use 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uthorized by the computi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erformant disks and comp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bonnie” and “stre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uitable network conne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enstore monitor” to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use of namespace, file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ize UIDs and GIDs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the name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ncp to access your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3494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IBM 3590 tape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B of staging disk internal t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BM TBD mover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DI network, 10 MB/sec to outsid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ly a cache, not a primary dat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a hierarchical store, with tape at the lowes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are subject to loss should the tape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as are refunded as tapes are squee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“large fi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D Division office gives an allocation in terms of 10 GB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are to us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Envisio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store for experiments large data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files to/from tape vi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ault tolerance -  ensemble reliability of a large tape drive plant, availability sufficient for D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automated tape libraries and manual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names of files in distributed catalog (name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will operate all the tape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ide too much that it is reall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dministration and moni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commodity and “data center” tape d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8:42:33Z</dcterms:created>
  <dc:creator>Don Petravick</dc:creator>
  <dc:description/>
  <dc:language>en-US</dc:language>
  <cp:lastModifiedBy>alcorn</cp:lastModifiedBy>
  <cp:lastPrinted>2000-05-23T13:28:54Z</cp:lastPrinted>
  <dcterms:modified xsi:type="dcterms:W3CDTF">2000-06-06T20:12:08Z</dcterms:modified>
  <cp:revision>10</cp:revision>
  <dc:subject/>
  <dc:title>CD central data storage and movement</dc:title>
</cp:coreProperties>
</file>