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7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25000" y="7074000"/>
            <a:ext cx="95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711E-A4C2-4887-B30D-39F4C9947E34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34800" y="33973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32440" y="709920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/4/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rmilab Mass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ichael Zalok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ermil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385920"/>
            <a:ext cx="8605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320" y="1081080"/>
            <a:ext cx="863928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5578560"/>
            <a:ext cx="25588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 time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02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7000" y="1557360"/>
            <a:ext cx="285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0040" y="2025720"/>
            <a:ext cx="144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06760" y="5335200"/>
            <a:ext cx="90468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65360" y="6337440"/>
            <a:ext cx="50263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&amp; dr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urrent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Instantaneou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005680" y="600084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098840" y="6076440"/>
            <a:ext cx="76860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 Data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6 Pet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files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.8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volu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Day Transfer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7 Ter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8000" y="123840"/>
            <a:ext cx="15922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218880"/>
            <a:ext cx="8605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rformance: 27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6840" y="1981080"/>
            <a:ext cx="9423360" cy="509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9680" y="169920"/>
            <a:ext cx="15922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03400" y="1058760"/>
            <a:ext cx="41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days of record transf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760" y="1498680"/>
            <a:ext cx="554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MS Service Challenge in March (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7240" y="1498680"/>
            <a:ext cx="266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rmal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1120" y="1860480"/>
            <a:ext cx="35892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286400" y="1890720"/>
            <a:ext cx="47124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74600" y="1376280"/>
            <a:ext cx="2032200" cy="13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because the file transferred without error, does not guarantee that everything is f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Fermilab's load we see bit error corru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27TB transfer days were not even noticed for thre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having a lot of logs, alarms and plots is not enough.  They must also be interpre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136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on top of Enstore or as standalone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buffer between the user and t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es performance for 'popular' files by avoiding the need of reading from tape every time a file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es as nodes (and disks) are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93000" y="189000"/>
            <a:ext cx="29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66760" y="158760"/>
            <a:ext cx="29304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235080"/>
            <a:ext cx="8605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r Access to Data in dCac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49120"/>
            <a:ext cx="8605800" cy="62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– storage resource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rm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i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obus_url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rberize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ak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p – native dCach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get, web br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73840" y="14292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itor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o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100 pool nodes with ~225 Terabytes of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96080" y="17316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6280" y="1598760"/>
            <a:ext cx="9150480" cy="4138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86200" y="5830920"/>
            <a:ext cx="346248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5164200" y="5019840"/>
            <a:ext cx="3233520" cy="10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728120" y="158760"/>
            <a:ext cx="2152440" cy="105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3280" y="6168960"/>
            <a:ext cx="354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rd transfer day of 60GB.  This is for just one dCac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73040" y="2266920"/>
            <a:ext cx="671760" cy="390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XFS filesystem on the pool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direct I/O when accessing the files on the local dCac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  Be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28120" y="142920"/>
            <a:ext cx="215244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58212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orage Resourc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440" y="1693440"/>
            <a:ext cx="86058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uniform interface for access to multiple storage systems via SRM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is a broker that works on top of other storag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s as a server within the d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ile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440" y="9036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-house, manages files, tape volumes, tape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-user direct interface to files on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t DESY and Fermilab, disk caching 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user interface to read cached files, write files to enstore indirectly via d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s a consistent interface to underlying storag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S Servic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, though the dCache to tape in En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op of normal daily usage of 200 to 40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throttled to 5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0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 to dCache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8280" y="13644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t errors detected from s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1960" y="2050920"/>
            <a:ext cx="3085920" cy="139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81120" y="6456240"/>
            <a:ext cx="5462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are achiev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1707840"/>
            <a:ext cx="860580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OS, MiniBooNE, SDSS, CMS, et.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dCache and 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48440" y="2828880"/>
            <a:ext cx="251280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7760" y="5767560"/>
            <a:ext cx="1589040" cy="779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38840" y="5548320"/>
            <a:ext cx="271944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66356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hierarchical namespace for users' files in En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ages file meta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s like an NFS mounted file system from user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s for “Perfectly Normal File Syst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ritten at DE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1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vided into a number of serv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alability is achieved by spreading these servers across multiple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node goes down, we can modify the configuration to run that nodes servers on a different node.  This increases availability while the broken node is fi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tore User Interface: en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 to standard UNIX cp(1)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cp /data/myfile1 /pnfs/myexperiment/my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48400" y="228600"/>
            <a:ext cx="2432160" cy="119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360" y="139680"/>
            <a:ext cx="243216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385560"/>
            <a:ext cx="860580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66640"/>
            <a:ext cx="860580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 StorageTek Powderhorn S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 ADIC AML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Dr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2: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: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B: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T (4000 &amp; 8000):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7 commodity Linux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01000" y="1270080"/>
            <a:ext cx="2668320" cy="273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9200" y="4141800"/>
            <a:ext cx="2670120" cy="272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552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pages for current server stat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n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ots for resourc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 drive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much 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v (ENstore 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75600" y="2235240"/>
            <a:ext cx="255600" cy="24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59644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76916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85760" y="18432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17424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1680" y="1087560"/>
            <a:ext cx="7159680" cy="50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18520" y="184320"/>
            <a:ext cx="1592280" cy="78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2000" y="6562800"/>
            <a:ext cx="28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3440" y="6168960"/>
            <a:ext cx="750708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-Axis is time since January 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05 until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-Axis is number of gigabytes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es summary of tapes written in last month and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